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CB53-D106-4269-98BE-314EDB19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4C2-2A0C-450A-95B6-6D1D9708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59E-C621-4F40-9A0F-3DAC9B92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782-CEA1-4999-8EA2-0A6BA626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4F3C-1956-4E4C-9F32-D4067CBA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4378-930F-4E13-89E6-81BC5F7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2F7F-FC02-4F1A-BC55-E5120E8A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D70A-826F-4905-9CFC-D54AA7C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7806-B15B-4715-932F-CAB03C59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8DD4-F1F3-439B-95DD-38F2392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C57C-AA9A-4C24-8A1A-34EDFBF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BFE-2628-4A61-A12C-AA313682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D176-1F70-412E-ABC3-0CB742C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79F-5526-4567-8447-52F890F6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DA70-E45B-493D-A506-680563B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0636-E76C-4527-8720-B973B660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C24-11C5-46EF-8C10-057F552E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0F82C-369F-424D-B216-B0E616DB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7AE5-0FCA-4522-BD3D-D4FCC64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C5FE-C043-41BC-8CDA-8D8C991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5B7C-72C4-4F78-8654-6AF76E5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2AA8-538D-43FE-8228-E6E4CC19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5F6-CA82-4DD1-AE94-D120592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F43E-5E33-4D5E-A9E5-1251F6C2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0BF3-E54F-4AF1-8BF9-DBAF3F5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E3A8-C479-48CF-82D1-0566C7C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D9DD-5AFC-4F83-B20C-F08A4FAD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64B6-8943-4A2B-96DB-E1DAD179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9B9-D269-4614-802F-B2157047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49DE-D3C5-4E1F-8215-F7AF9299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FD16-CABF-48EC-B69D-7D8D5397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E5EE-8011-4B3F-8678-3CA25F77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9F1F9-E89F-42F8-BFE2-25CA7F4F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F79-DE74-4550-9E3D-DC5A9D33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9BE6D-2248-4E12-910B-1CF69F87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091F-DF27-4D5A-885B-512B2E0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7C9-AB4B-42DE-9439-B25AB1C5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2495-A859-445F-9DA2-66EE1854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8B65-43C5-4E5E-8F36-20819CB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A69F-64A3-4F45-A2F4-260F291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D0D65-CE62-455C-AEF0-C165F41A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4BEB-1C3E-44D3-9813-BE6CDD61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873CB-E34A-4DED-8BC7-71C3314F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4AD98-43F8-462F-83F7-32A325D5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0FD-D6C9-4AA3-800A-D04999A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9CB1-0192-4D7E-82FF-1F5A8CE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9F1E-15C9-4548-A6E0-AF746B95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FB6A5-BE00-4284-9A23-1E6F4CD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11782-2A8C-4CBC-AC77-D262F0F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081E6-7F8D-4627-8BC5-AB75934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774D-32FE-4209-BB7C-1813E4DD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FF8A-6EE6-4FCF-99F9-6948CE70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1C43-7168-4902-B5BF-B644939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3B65-66CC-4C4A-A843-05D09DB5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009F8-C467-4152-A9F3-DFE2BA94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6B2-9646-4250-9110-CF0C722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C6B0-C685-49B5-BFB3-968DB94B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0CC9-D78B-4C6B-936B-40FC80E4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4FADE-0743-4AA9-9C31-7D0345FA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72D9F-AE43-4BB0-9718-DBD9B23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4542-A360-455F-B4F1-1BBCAC2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53D1-97D2-47D3-9872-4F5B7BC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6C0C-8B0B-4BD8-BD0D-C6C47A0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A3AA4-D06F-4EED-86AF-D60BB96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C522-3F2B-4CFE-AD5A-E1B36B0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C197-5B2A-472D-BF7F-E147B3A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FC4-1B23-4D56-B57F-B2CFE1B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7C42-1F3D-4B92-97D3-3061CC7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3FE88-BA37-4E30-9BE0-CFDC2341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354A-6CBF-4342-A35E-0959FE14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A7424-8282-4C92-852F-AB0BF186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60EC8-42EA-4C38-B77E-26A3202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5672A-9FAE-4F87-8910-5A557C7D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5284-D72C-4C61-84F3-C1EA0171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FC2AB-BDDC-4E29-B24F-97B569FB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5EAB9-3484-439A-943A-496D8CD7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2A0DA-8C8B-4985-A231-E35CA42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86E-E2F7-46D6-B946-0F8845B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0D96-AAB9-4E05-975D-5AD194D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8A41-F32A-4F5C-B6B2-4098B12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425AB-73FE-4D61-89D7-97227E00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088C-67CA-4D13-BBB1-2462D927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1558E-ED9B-4E50-9A34-CDC570D3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D9708-6989-4235-82F8-AD4DCE85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31C06-AE83-4729-B371-E59E49B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86859-5AF8-499F-B5B9-2CD4860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7B0FB-75AE-4466-A3CE-BDE99E03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6596-7EE6-49FA-9FD7-565CA7ED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78C-5550-4FB8-8323-7B6BF0D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DEF7B-86F9-4624-9804-C2B6260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59EEC-D335-4C91-AE6F-57468AF4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E80C-A3A4-4ED2-A4E9-93FCD7A5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DDBA6-01D8-4070-8A1B-4B8B6B85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5E6BB-9036-4B01-A0DF-92D254C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8376D-D216-4D54-8135-43F55DD6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51DB-1732-402D-8D84-E03937FE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222B-B3BE-431B-92D1-5CAB1D290D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5E04-3321-4838-B038-9126D1D042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CC5-7F56-4592-B460-D4E707D9A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E43-3014-47B4-96B9-E5CEFDBF8A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8A32-21FB-41F3-8457-F09C34FB4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478A-1D71-4B48-8ADE-0D5C7AC26C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47DF-7094-4552-9543-BCE20302487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F989-D542-4657-8F13-98E9707EF31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ante_Alighieri" TargetMode="External"/><Relationship Id="rId2" Type="http://schemas.openxmlformats.org/officeDocument/2006/relationships/hyperlink" Target="http://historymedren.about.com/library/who/blwwdante.htm" TargetMode="External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t0.gstatic.com/images?q=tbn:ANd9GcTVeiS2ozH6Q3Q9eQCkTEa62ipkJdsN-cXAensNWX3T-NRsCU2FYQ7nZdic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4495680" y="2819520"/>
            <a:ext cx="449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n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1265 –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ptember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1321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rn to a patrician family of Alighiero di Bellincione and Bella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 mother, Bella, died before Dante was te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he was twelve, he was promised in marriage to Gemma di Manetto Donati, but fell in love with Beatrice Portinari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e had three children; Pietro, Jacopo, and Antonia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tudied Tuscan poetry at the Sicilian Schoo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 love for Beatrice inspired his reason to write and liv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eatrice was a major topic in his poem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t age 18 he met Guido Cavalcanti, Lapo Gianni, Cino da Pistoia, and Brunetto Latini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ogether they became the leaders of the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Dolce Stil Novo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The Dolce Stil Novo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group received a special mention for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La Divina Commedia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The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Divine Comedy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ther works include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Vita Nuova and Convivio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54" name="Picture 2" descr="http://urbangoblin.files.wordpress.com/2011/05/the_divine_comedy_book_dante_alighieri_arcturus.jpg"/>
          <p:cNvPicPr/>
          <p:nvPr/>
        </p:nvPicPr>
        <p:blipFill>
          <a:blip r:embed="rId2"/>
          <a:stretch/>
        </p:blipFill>
        <p:spPr>
          <a:xfrm>
            <a:off x="4648320" y="152280"/>
            <a:ext cx="4495680" cy="6705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3.undpress.nd.edu/covers/P00487.png"/>
          <p:cNvPicPr/>
          <p:nvPr/>
        </p:nvPicPr>
        <p:blipFill>
          <a:blip r:embed="rId3"/>
          <a:stretch/>
        </p:blipFill>
        <p:spPr>
          <a:xfrm>
            <a:off x="36360" y="152280"/>
            <a:ext cx="45356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53352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Divine Comedy was written sometime between 1308 and 1321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scribes Dante’s journey through Inferno (Hell), Purgatorio (Purgatory) , and Paradiso (Paradise)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rst guided by the Roman poet Virgil, then by Beatric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407520" indent="-348120">
              <a:spcBef>
                <a:spcPts val="700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Infern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art requires a certain amount of knowledge to appreciate,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Purgatori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was the most lyrical and human, while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Paradiso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is the most beautiful and ecstatic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Impact on the Renaissance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ften considered the finest poet in the Middle Ag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rote most of his poetry in Italian vernacular instead of Latin,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Trebuchet MS"/>
              </a:rPr>
              <a:t>Work Cited</a:t>
            </a:r>
            <a:endParaRPr b="0" lang="en-US" sz="4200" spc="-1" strike="noStrike">
              <a:solidFill>
                <a:srgbClr val="e3e3e3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n-formatio.co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Undpress.nd.edu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Judianity.info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Georgia"/>
                <a:hlinkClick r:id="rId1"/>
              </a:rPr>
              <a:t>http://en.wikipedia.org/wiki/Dante_Alighieri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5f5f5f"/>
                </a:solidFill>
                <a:uFillTx/>
                <a:latin typeface="Georgia"/>
                <a:hlinkClick r:id="rId2"/>
              </a:rPr>
              <a:t>http://historymedren.about.com/library/who/blwwdante.ht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9:53:12Z</dcterms:created>
  <dc:creator>admin</dc:creator>
  <dc:description/>
  <dc:language>en-US</dc:language>
  <cp:lastModifiedBy>User</cp:lastModifiedBy>
  <dcterms:modified xsi:type="dcterms:W3CDTF">2012-01-27T00:25:02Z</dcterms:modified>
  <cp:revision>9</cp:revision>
  <dc:subject/>
  <dc:title>Slide 1</dc:title>
</cp:coreProperties>
</file>